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423C-17AA-4621-848F-625EF3CEC2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4B78-AD17-4B90-8708-C7D3E14EEBE7}" type="slidenum">
              <a:rPr b="0" lang="ru-RU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F4C0-B212-43A3-9C98-0B0B86C19B74}" type="slidenum">
              <a:rPr b="0" lang="ru-RU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DA8E-8E69-44B0-BC53-9AE8500D6637}" type="slidenum">
              <a:rPr b="0" lang="ru-RU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7C56-88EE-4B8F-99E5-668ED8CBF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0300-F3DB-4521-91E7-7C7E6684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A054-9A65-414D-AAE0-DABEE49F9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BBEB-BEBB-4F3E-8C60-A1FDCD448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17EE-5D34-4BA1-9C2E-01A07CBC9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F403-B282-4127-8B9F-D17BFBB5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B1E3-41DA-4139-ACAF-BD527E94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47C0-8C08-434F-B0AA-D84D8F2A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945B-48DD-4A57-B3C4-992BD759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5DF7-23A4-4985-94E7-4B4EA396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A568-06A8-4F64-BB94-44058015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DB84-419E-46D4-8A8D-7450E7DA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AF28-9635-4814-AAC4-BF7111A9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6F07-9A15-41FC-A75E-5E24294E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D40D-6CA0-4C56-A8A8-E8756A68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8B39-6C92-4A99-8D83-D477E7B39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6592-6D8F-409C-A264-CC25823EC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E644-6D43-434E-BF94-D784A42D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62B8-D8DC-4257-876D-9CE0A2A9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DE2C-E31C-401A-BB2C-04BF363B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1924-7614-403D-B656-120546A0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A65B-E30B-4458-9978-DF3CB390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6AB6-CC7D-447A-BA5E-6E4EF437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D1F9-6AF9-43AB-B370-2FF2F46D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>
                  <a:gd name="textAreaLeft" fmla="*/ 360 w 192960"/>
                  <a:gd name="textAreaRight" fmla="*/ 193680 w 19296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E2AE-E6AD-482B-9E47-851C86EEF7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0219-5AD3-4C0C-9D2C-1426E0CA18C5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14479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ahoma"/>
              </a:rPr>
              <a:t>Метапредметность и ключевые компетентност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38095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А.Ю. Пентин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Метапредметные результаты ФГОС и ключевые компетентности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Обнаруживается большое сходство между пониманием метапредметных результатов в ФГОС и ключевыми компетентностями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Регулятивные, познавательные и коммуникативные УУД, определяющие метапредметные результаты ФГОС, совпадают с тремя группами ключевых компетентностей, выделенными в международном проекте ОЭСР.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Как достигать метапредметных результатов и измерять их?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Меры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Изменение требований к учебникам и УМК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Включение в программы учебных предметов планируемых метапредметных результатов и соответствующих видов деятельности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Построение учебного занятия, нацеленного на достижение не только предметных, но метапредметных результатов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Проектная деятельность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Оценивание достижения метапредметных результатов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76920" y="1676520"/>
            <a:ext cx="4114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Tahoma"/>
              </a:rPr>
              <a:t>Способы оценивания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6600"/>
                </a:solidFill>
                <a:latin typeface="Tahoma"/>
              </a:rPr>
              <a:t>Экспертиза на соответствие требованиям ФГОС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6600"/>
                </a:solidFill>
                <a:latin typeface="Tahoma"/>
              </a:rPr>
              <a:t>Экспертиза на уровне ОУ и обсуждение в профессиональном сообществе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6600"/>
                </a:solidFill>
                <a:latin typeface="Tahoma"/>
              </a:rPr>
              <a:t>Измерители???  Одна из форм – компетентностно-ориентированные задания, в т.ч. по образцу </a:t>
            </a: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PISA</a:t>
            </a:r>
            <a:r>
              <a:rPr b="0" lang="ru-RU" sz="1800" spc="-1" strike="noStrike">
                <a:solidFill>
                  <a:srgbClr val="cc6600"/>
                </a:solidFill>
                <a:latin typeface="Tahoma"/>
              </a:rPr>
              <a:t>. </a:t>
            </a:r>
            <a:r>
              <a:rPr b="1" lang="ru-RU" sz="1800" spc="-1" strike="noStrike">
                <a:solidFill>
                  <a:srgbClr val="cc6600"/>
                </a:solidFill>
                <a:latin typeface="Tahoma"/>
              </a:rPr>
              <a:t>Нужны и другие!</a:t>
            </a:r>
            <a:r>
              <a:rPr b="0" lang="ru-RU" sz="1800" spc="-1" strike="noStrike">
                <a:solidFill>
                  <a:srgbClr val="cc66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Формы метапредметности: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21333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Метапредметы (новые учебные предметы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Метапредметные понятия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Метапредметные умения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Метапредметы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Учебные предметы, построенные на основе обобщенных способов деятельности, например, предметы «Знак», «Знание», «Проблема», «Задача», «Смысл», «Ситуация» и т.д. (Громыко и др.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Могут быть и другие варианты: «Учусь учиться» (Петерсон), «Методы научного исследования», «Решение проблем» и т.д.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Метапредметные понят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Понятия, имеющие надпредметный смысл, универсальное значение: время и пространство, порядок и хаос, движение, система, модель, случайность, символ, знак, … - список практически бесконечен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На основе метапредметных понятий можно реализовывать идею интеграции, строить интегрированные или межпредметные уроки.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Метапредметные умен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Это общеучебные умения, ключевые компетентности, универсальные учебные действия (УУД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В новом стандарте (ФГОС) именно метапредметные умения лежат в основе т.н. </a:t>
            </a:r>
            <a:r>
              <a:rPr b="0" i="1" lang="ru-RU" sz="2800" spc="-1" strike="noStrike">
                <a:solidFill>
                  <a:srgbClr val="40458c"/>
                </a:solidFill>
                <a:latin typeface="Tahoma"/>
              </a:rPr>
              <a:t>метапредметных результатов освоения основной образовательной программы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, иначе говоря, </a:t>
            </a: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метапредметных результатов обучения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.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В чем разница между действующим и новым стандартами?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886200" cy="449604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ействующий стандарт (федеральный компонент)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обязательный минимум содержания основных образовательных программ общего образования (по предметам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требования к уровню подготовки выпускников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максимальный объем учебной нагрузки обучающихся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00600" y="1523520"/>
            <a:ext cx="4038480" cy="449604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Tahoma"/>
              </a:rPr>
              <a:t>Новый стандарт (ФГОС)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ahoma"/>
              </a:rPr>
              <a:t>требования к результатам освоения основных образовательных программ;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ahoma"/>
              </a:rPr>
              <a:t>требования к структуре основных образовательных программ (начального, основного и среднего (полного) общего образования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ahoma"/>
              </a:rPr>
              <a:t>требования к условиям реализации основных образовательных программ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ahoma"/>
              </a:rPr>
              <a:t>Требования к результатам освоения основной образовательной программы ООО: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SzPct val="2264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58c"/>
                </a:solidFill>
                <a:latin typeface="Tahoma"/>
              </a:rPr>
              <a:t>личностным</a:t>
            </a:r>
            <a:r>
              <a:rPr b="0" lang="ru-RU" sz="1600" spc="-1" strike="noStrike">
                <a:solidFill>
                  <a:srgbClr val="40458c"/>
                </a:solidFill>
                <a:latin typeface="Tahoma"/>
              </a:rPr>
              <a:t>: готовность и способность обучающихся к саморазвитию и личностному самоопределению, сформированность мотивации к обучению и целенаправленной познавательной деятельности, системы значимых социальных и межличностных отношений, ценностно-смысловых установок, отражающих личностные и гражданские позиции в деятельности, социальные </a:t>
            </a:r>
            <a:r>
              <a:rPr b="0" lang="ru-RU" sz="1600" spc="-1" strike="noStrike" u="sng">
                <a:solidFill>
                  <a:srgbClr val="40458c"/>
                </a:solidFill>
                <a:uFillTx/>
                <a:latin typeface="Tahoma"/>
              </a:rPr>
              <a:t>компетенции</a:t>
            </a:r>
            <a:r>
              <a:rPr b="0" lang="ru-RU" sz="1600" spc="-1" strike="noStrike">
                <a:solidFill>
                  <a:srgbClr val="40458c"/>
                </a:solidFill>
                <a:latin typeface="Tahoma"/>
              </a:rPr>
              <a:t>, правосознание, способность ставить цели и строить жизненные планы, способность к осознанию российской в поликультурном социуме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SzPct val="2264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58c"/>
                </a:solidFill>
                <a:latin typeface="Tahoma"/>
              </a:rPr>
              <a:t>метапредметным</a:t>
            </a:r>
            <a:r>
              <a:rPr b="0" lang="ru-RU" sz="1600" spc="-1" strike="noStrike">
                <a:solidFill>
                  <a:srgbClr val="40458c"/>
                </a:solidFill>
                <a:latin typeface="Tahoma"/>
              </a:rPr>
              <a:t>: освоенные обучающимися метапредметные понятия и универсальные учебные действия, способность их использования в учебной, познавательной и социальной практике, самостоятельность планирования и осуществления учебной деятельности и организации учебного сотрудничества с педагогами и сверстниками, построение индивидуальной образовательной траектории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SzPct val="2264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58c"/>
                </a:solidFill>
                <a:latin typeface="Tahoma"/>
              </a:rPr>
              <a:t>предметным:</a:t>
            </a:r>
            <a:r>
              <a:rPr b="0" lang="ru-RU" sz="1600" spc="-1" strike="noStrike">
                <a:solidFill>
                  <a:srgbClr val="40458c"/>
                </a:solidFill>
                <a:latin typeface="Tahoma"/>
              </a:rPr>
              <a:t> освоенные обучающимися умения специфические для данной предметной области, виды деятельности по получению нового знания в рамках учебного предмета, его преобразованию и применению в учебных, учебно-проектных и социально-проектных ситуациях, формирование научного типа мышления, научных представлений о ключевых теориях, типах и видах отношений, владение научной терминологией, ключевыми понятиями, методами и приемами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Из глоссария ФГОС: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www.standart.edu.ru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Компетенция</a:t>
            </a:r>
            <a:br>
              <a:rPr sz="2000"/>
            </a:br>
            <a:r>
              <a:rPr b="0" lang="ru-RU" sz="2000" spc="-1" strike="noStrike">
                <a:solidFill>
                  <a:srgbClr val="40458c"/>
                </a:solidFill>
                <a:latin typeface="Arial"/>
              </a:rPr>
              <a:t>1) круг полномочий и прав, предоставляемых законом, уставом или договором конкретному лицу или организации в решении соответствующих вопросов;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40458c"/>
                </a:solidFill>
                <a:latin typeface="Arial"/>
              </a:rPr>
              <a:t>2) совокупность определенных знаний, умений и навыков, в которых человек должен быть осведомлен и иметь практический опыт работы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Arial"/>
              </a:rPr>
              <a:t>Компетентность</a:t>
            </a:r>
            <a:br>
              <a:rPr sz="2000"/>
            </a:br>
            <a:r>
              <a:rPr b="0" lang="ru-RU" sz="2000" spc="-1" strike="noStrike">
                <a:solidFill>
                  <a:srgbClr val="40458c"/>
                </a:solidFill>
                <a:latin typeface="Arial"/>
              </a:rPr>
              <a:t>Умение активно использовать полученные личные и профессиональные знания и навыки в практической или научной деятельности. Различают образовательную, общекультурную, социальнотрудовую, информационную, коммуникативную, компетенции в сфере личностного самоопределения и др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Как выглядят требования к метапредметным результатам ФГОС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952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58c"/>
                </a:solidFill>
                <a:latin typeface="Tahoma"/>
              </a:rPr>
              <a:t>Некоторые из метапредметных результатов (ООО):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SzPct val="2264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Tahoma"/>
              </a:rPr>
              <a:t>умение самостоятельно определять цели своего обучения, ставить и формулировать для себя новые задачи в учебе и познавательной деятельности…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SzPct val="2264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Tahoma"/>
              </a:rPr>
              <a:t>умение самостоятельно планировать пути достижения целей, в том числе  альтернативные, осознанно выбирать наиболее эффективные способы решения учебных и познавательных задач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SzPct val="2264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58c"/>
                </a:solidFill>
                <a:latin typeface="Tahoma"/>
              </a:rPr>
              <a:t>умение создавать, применять и преобразовывать знаки и символы, модели и схемы для решения учебных и познавательных задач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SzPct val="2264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58c"/>
                </a:solidFill>
                <a:latin typeface="Tahoma"/>
              </a:rPr>
              <a:t>смысловое чтение;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SzPct val="22644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6600"/>
                </a:solidFill>
                <a:latin typeface="Tahoma"/>
              </a:rPr>
              <a:t>умение организовывать учебное сотрудничество и совместную деятельность с учителем и сверстниками; работать индивидуально и в группе: находить общее решение и разрешать конфликты …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791320" y="1523520"/>
            <a:ext cx="31240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Способы оценивания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выполнение индивидуального или группового учебного проекта (предусматривается ФГОС ООО и СОО)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метапредметные КИМы в рамках предметной аттестации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накопительная оценка, портфолио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7T18:19:07Z</dcterms:created>
  <dc:creator>pentin</dc:creator>
  <dc:description/>
  <dc:language>en-US</dc:language>
  <cp:lastModifiedBy>pentin</cp:lastModifiedBy>
  <dcterms:modified xsi:type="dcterms:W3CDTF">2011-02-15T10:36:52Z</dcterms:modified>
  <cp:revision>63</cp:revision>
  <dc:subject/>
  <dc:title>Использование подходов PISA при разработке учебных заданий  к курсу «Естествознание» (10 – 11 кл.) </dc:title>
</cp:coreProperties>
</file>